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move the slide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AA28-A9D7-4D35-87B1-4A1B58F27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1502-58CA-46A0-A2AD-3D7873D69AE1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8690-DC76-4D54-9686-559EE727DC3F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97D2-B9D0-4A90-B5E4-D18BD9B1CA6D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5198-12BE-4D86-96CF-1BF9F21527F0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CBA2-FE2C-4F1C-9E16-7E63AD5D0A11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C204-85A6-4BD6-89A2-D2AA9ED81AFB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3F79-6D4B-48FE-862D-6343CBA3E564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B1E8-7A09-4862-80DA-9D34CBC55C01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E8DD-DD59-419A-9091-21E7D167FA5D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7C77-DD01-443E-972F-5CC4AC32CE74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0581-7610-4170-852B-44F70FD525F3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CEB0-5470-4C9D-955F-1533B5A77651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F7B6-1759-4372-AF52-A22A30F0E00E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058B-739C-4EBB-9D07-DE5B1D35A8D6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9535-9ADF-47FF-8941-2EE3F406BE8B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50C5-0A0F-4883-B23A-373A11D57C91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A22A-9C02-4843-BD13-6B906437ABC2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8F69-36AB-4BB9-9993-987C25B6C811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6E96-811A-462F-B781-20633528F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728D-66F5-41F1-B408-40549DBBF60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3186ED-301E-4810-856B-1CB9018115A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EA0C89-CF47-42C6-806B-BB8356DBC14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0CDC25-B4A7-476B-90F2-D1B0659EEC2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925912-EA38-45F4-B9E4-5020BBAE925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F52AFB-88C6-43AA-BB18-BAB071D1D13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EF6928-8E69-4AAE-ADF9-7A10E6DF1F6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10DE45-385D-45A2-93B8-AFC3CCA5B6B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80D376-7F0B-46AD-80FF-912EB09277B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88C818-FE10-4A14-B644-91F63467C48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D5B89-CE29-4B28-BFDA-3F8DE5DE6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5E695-E1B2-401D-8B92-CC4D72886C1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F7E44-06AC-4301-83D0-5758DD59193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E51D8-D12E-49B8-9415-9CEC2163640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84FAA-BCDD-4620-8B4E-E044E194649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03ACB-8FBC-4581-8F30-97C59AF2590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519A5-B534-4D8A-9B77-F63F0ADADA3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BA508-0222-4D43-B262-D9FD034B8D6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892B8-41B0-4995-90B1-5985F289F38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C760C-2C71-48FF-817D-EDED48259D2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72980-18AA-4717-97AE-2E8EB9B8B43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EFCFB-F8AD-4C7C-860A-20C25194A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987AF-56F9-4305-81CA-10690E90905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824AD-3CA0-4DA8-857C-C2947BCC946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95F20E-B279-410B-98AF-F5629C2610D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316EA1-D025-4AA0-BACB-74D7C361875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413A06-C304-4A97-9FAC-4C2F0B1C3C0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3CB4FE-6953-4F88-B03C-BA406A5C4ED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84B2F-C31F-41EF-A5C8-F9AF4221970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A8150-4986-435D-9356-B9212C33EB9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17092F-1CC8-4514-9FA2-6E04A853DDE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143FF-06A9-4BDC-96CE-DF450FDFF74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1E62AC-0524-4A1B-B0AF-E41255551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9BB9B-BFBA-4225-94EA-ED6724A7141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B3D226-A255-4CD6-A58C-EFB81CF2043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F427EF-BD78-4FBA-8F9C-257054B9C1E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E7F297-C342-4E51-9B7D-815D8BC8685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CE5C44-C527-4DC4-9C97-D501B2DCAAE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89E060-080D-42B4-9C7E-AC25D760F6E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8A72CB-E416-451A-A77B-A517F24BCFC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EF2C3B-E84E-4269-9690-3F7F170AED4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779A4C-8BB8-4A3A-A4B4-2A61286F8A2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C12EE0-3A35-4327-AD19-65AB88FF625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51127F-F88A-45FF-8389-26927143E3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D8E94-D532-4807-B758-759F0800AF2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AAFB7B-F6A3-4638-9D61-E4B36EA2229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19BCB8-1CAE-4473-8DC3-D4B2F0C9861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6F9C4A-558C-454A-935E-10AE5CCD56D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4A0C2A-C87F-4E9A-932A-4A821EE2BD8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77B02B-E027-4CC3-A03B-B00A1012796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14987-8A22-40C4-92B4-48475DCC51A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FAFFF-5529-4D8D-A760-E56F4041826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9025F-04B6-40C5-9B00-B2B74882292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B5F85-00AA-4494-963C-365C96E9B40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52A30-434B-4333-B8E1-B226DB7E83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4C5B9-DAAF-483F-B615-61738AD9FB0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FC37A-2064-4AFD-A188-7DED01A337F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79688-6CC1-467C-9417-E021645D7F0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1E84A-865A-45A1-8357-88E80D3CBCB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BDA32-3B65-4BDF-AB0D-5EE37BAE00E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D6A85-6237-43D0-8396-23AADB9E735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C8CB1-87F8-4A2B-8EB8-3253F80395C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CC4AC-4F06-48C8-BAA5-09D5D02D3BD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0F772-DD60-4812-9992-68809210B84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EE4005-DF2B-4653-A473-7C9C041828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16C4B-97AF-4E67-B9B9-474A69F760A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19C84D-6102-4118-BCFA-D9925F85A16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2ACD5D-227E-4D33-B103-C8D68265D5E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69FFA4-25FA-4515-AEAB-98BBC44E830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28374D-477A-48CE-B66D-DCABB621B12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BDEE9E-161F-4717-8EF0-52802A81E2D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DF4055-4D8B-4D43-A7D0-34DAF754307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DF4507-1B51-4897-8A94-B3732DDF83A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213AB9-9972-43D8-9D87-9E6AC463D3A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F21C8E-27A4-4E26-B0AE-8BD5ADB521D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6A1AFA-4AAB-493C-8EDB-CD6194EEFC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7989E-3E0A-47DC-8223-B370D177EF3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6EC537-7DD0-42E7-8472-94B1C58F123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991521-77C5-4FBD-BC94-B498F163047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59A96-E3E1-48CA-BF6E-7720F811B48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10D4C-27FA-4863-9F59-FF16BE23F56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9EA4F-424C-4CF0-9254-F8325DCE66F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66179-EE33-42BD-8A22-CC9DDC7BEB3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9BA817-8D15-4A8C-8F9C-A4421581BC0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6865C-4DB8-420F-9F53-6DEDD9A43ED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B53C1-7914-4E07-AAA1-DDC79F720DE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E064D-97C6-4883-A390-3390DEAC43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0A657-3031-4197-AD5A-E1F265CF0C7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8C1AC-1286-4405-8A54-07796A35E96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407F0-3E77-4CB6-B613-86A88DFEFE6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90070-13B9-41F7-A383-D5B74B0013C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F8113-A867-4DC0-90C5-F9A175A8470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4E16B-8CAA-4430-A4D7-BABB5F4A488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CA950-1CEA-4573-9F76-9C9C2D3383A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F8C05-ADB7-4461-A16F-731EC110C83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D408E-CAE1-4069-BB3A-EEA880C77B6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7F508-DDCE-4997-AC9A-497200E2C46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50563-DA23-4CB3-967D-C0FA6C0E0B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1AA9E-D4C7-439C-BD9F-7E75C16FE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AF356-20D6-492C-96F7-B639DF662FF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1B5CE-76AE-497C-A140-275D030F1CF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17CC7-9923-4A6B-8C06-838701DCB41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24EDF-4CC4-458D-B061-BC669D99179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E7055-D98C-42EB-9DD9-758CC011BD0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1A1CB-CF8C-41A1-A623-D5467FB3ED1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7AE186-D939-4B40-9400-08315FDF669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55BEC6-2789-4664-9BBD-2316D2D1887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03A4E7-2929-4496-94B2-BD732FD2B65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A6498D-23C7-413A-825C-C4BCB78FBF1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F92A9E-BF80-4B73-80E3-CB9766058A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59336-E686-495D-8548-E41F2D5A8A7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5127D4-5182-4255-A188-D28B8AA2411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F83BED-4BF9-4CDB-9D1D-90E7F1A1DF7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8CBF1D-86E1-4D2A-9619-5CA750058D9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5D7C41-F17C-4285-960E-B610CF94A6B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ECAA05-107A-4097-B43A-94E08A923F8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A2EC59-F0C1-4066-AC0A-6934C034662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1B0001-0DF2-4F10-8969-D08573B15A2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57440-6A7E-48DF-87BE-2EF7BEC4D20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2EFCF-52CC-45DD-84C8-38C64123106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BFC49-336D-4032-93DA-125C341BDB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921E3-80A1-4107-B2A9-BD735B4FAB9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347A04-B8AC-47F5-8F4D-39E7EA14638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6BE92-6913-4D64-A094-87305102B4C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ACAE87-EE97-458D-B08D-51A9946EB65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E40D8-2313-4659-810F-61211384E49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C48A8-3DAD-4821-98FC-4EB884CEECD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7537B-7747-45D1-8305-9A742CE5BC6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0AD2E-B204-4513-A10D-253F278BB49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724FE-2DA1-4CB2-96F9-2E164837CFB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85281-A2F8-4E32-9BEE-FEB29ACF2FB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03B54-5502-4617-9970-C693CAE407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9E3D4-B1C8-45A4-A67E-CE95BDAEED7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3DD34-DCB9-4ED7-87F3-FC034ED9D44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223ED-2179-4A2C-BD63-3C472246491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A801B-D897-419D-9E6C-80D84557D82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16616-3C79-4436-86EE-E2065582EC9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1EDFC-912B-487B-9D2C-8E65AC2568F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E2027-91E3-477C-B57F-4CCE6849088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7833D-C53E-41FD-B43F-4BB19878824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EAE9B-5967-4B16-9CCC-D5ED3E33EE6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BC370-1690-4F39-BA8A-49673DC2F81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3EA02-7C79-49C4-B360-F902CACBAC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32AE7-3515-4D13-8025-0853AEECC0A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9A8FA-D54D-4B88-ADDE-B0A584D92A0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4F01F6-F982-4C2A-9E7F-2DB465A04FE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2A8F8D-5545-4326-B0BE-6C2A4D26FC8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00241E-5187-4781-BA13-B1340F08488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17D100-1248-4016-826C-6C211AE32AE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AED463-7AB4-4D15-9C38-68AB25D3BE5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06ECF5-17B4-44CE-BD1B-31791895D13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538AE0-E47C-47D3-8151-43458AD60C1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923BAF-9162-4926-A74A-E8680D545D1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9AB119-0E8B-4A7E-81EB-B8A4D0F3E8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AA5FB4-9549-434A-9B4F-D40267476C0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C967C9-1495-45B5-BD45-2BEB8640C45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83AD40-AD9E-4B32-9861-9503A9DAC35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3ECD2E-8557-4612-ADC8-AB04877C4AA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573E09C-597C-44FE-A7E4-19CD8536CB6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EF3B7E-2B8F-444A-AEAC-3578125E211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7D6472-9A4B-403F-AFE7-0D856C6713E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F21979-38E2-44C9-95D8-2B109CAF499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A8FB26-024C-4B9D-AEF0-BC88D3CA8A5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B95A16-FCDD-4245-BC26-E6E36904CF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0BFCDC-3A21-43CC-9D4A-28A35B85435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0362BD3-CCC5-43DE-A32B-4386A712475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D9A9158-4461-4C14-9E88-07B39765782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B3DFF8-1299-4DA6-AE06-99884D0A0DB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BFE1678-9404-49C8-A77F-C6819EE4E00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A25895-1A60-4B3D-BEE2-1FCBCEC4878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C3BC7C-56BD-4189-ABC1-7114051BAB7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C3AE70-C53D-4795-80C1-40AE778CEDB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34DD4-C90A-4005-B5E3-E8E1EE07C2C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F1DCC1-E7D6-4723-AEDD-9AD9D88494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E52EC-EA01-4957-BE49-3021B455BEA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4714E-A16D-4BE6-B866-420CF90B760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3A6C69-8DA7-4E4D-B019-03F6F19ADC8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E28033-EAAD-495B-8EBA-744BB766858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093FC-6F1F-4BAB-A7B4-865E85DE360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91DCC1-14A9-4E13-8C74-5DEBB05323D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C14482-B726-4648-8993-022EB204626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AA5112-2D42-41B3-A24D-629B70545B6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64C249-177F-448C-990F-D982D6A0F2F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27F6D5-44E2-443C-808D-1299F1D69E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DD21A62-701D-4331-9849-98FF9E9E460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4B901B-0B17-4584-AAEF-B298815156B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729AC5-E6DE-486B-94DA-064C9A179B7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07893E-82FE-483E-A773-45553EBBFCF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931726-BCE3-499F-98DF-4A9BB1DA806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FA1811-44A1-47F9-949C-9014DED9BD1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3CC6B8-8B1F-495D-AF83-C41E70F06AB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0FEF35-3A32-4314-9403-9DB1E683B18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ADCBF3-EE77-4F76-AA00-E676DAC005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2C99E-570C-438C-8A14-E08026EF22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F15C-CC9B-4A1C-86CF-6735BF1CBE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6879-6508-4B4B-B068-6848F7E46C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1897-4638-4637-AD87-29A36DBD1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6AC71-09E6-4436-AA68-ED99DAFDE5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0E0A-CC50-4719-BEEA-53ABB0825A5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211C-2EC9-42D5-A74F-03B0AF92EE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A2B6-AED6-453B-A45B-2368FEC952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99DB-D0A2-454A-854F-702AADD7B3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C0C7-717F-4CEE-BA0B-0450930454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17ED-E8C8-4401-B417-82675AB988D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F860-F8B4-4A05-AAE7-2A4F57835D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2B08-BDF7-4ED8-A817-1F59AA61AC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5655-6A5D-4061-88CE-9813254845B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17D5E-0758-4894-9873-9A3B8CD7A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D3749-F7FF-4E9E-83F1-1258844A60D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DBC18-D98D-435F-AEA1-CEFA8EEE47C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64203-65E4-4580-AB6E-26E12352E1D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8A1CB-A0DF-4F81-A4ED-7C31A29DB0D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D81F1-DD76-4073-9FCE-5D69C70944F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B3FCB-E0A9-414F-9B6C-5028A97FC86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9BEB9-4061-4723-87E5-1D1594439FC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4A14F-E1CC-4D2D-A81D-793BD357B52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0B4D8-B2F4-42E1-B500-677AB9A70F7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AEA62-637F-4FE7-B9B8-EC9A8A10E4E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76890-EA61-44E9-AF11-5682B86B6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7ED7-F36F-4781-90BC-1D243F9681E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1C126-2F68-4EBB-B2F0-A012FD46B03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8462A2-5DDD-406F-AE23-CC6213FFE18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202D58-4DAA-4708-95C3-9CBA4BC5ABE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81B22B-AB7C-4E05-8CA6-88467A2DA1E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DF6928-7386-41CD-BD39-74E68E20899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FD37A0-5BBF-4AB4-A1BF-8BC02E92121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9DAD2-79B4-4E25-BF7C-A99755EB867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5B73A1-5892-4836-9CD0-E2658CB6E5C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18401B-25CD-44DC-AB7F-7A4AC44AE28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8FAA1F-EBA3-404E-910D-AB0CE42CC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ABDA9-2FDE-4EE6-8FA2-D216C9E5CAA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8654F3-F703-4570-AB64-1B65299DB8E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72586F-E1F1-47B0-92D2-8D84E992BE7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677CB5-52FB-4AF9-8B62-7C949A6A126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41BB8-8738-4BD0-A135-042D52C15B4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A36BD-A3AF-482B-A468-AF78BCBA4E9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1A925-AE67-4FAA-91DA-4220E2BD179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EA547-BD94-4C27-B50A-66018EBABC6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02D8C-D7E8-4228-A815-CE177128F65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BB8C2-3F0F-42E0-AF99-9C16C4D6D62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FFC44-9352-4F32-A786-BC41B1819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00C25-5AD3-4D65-B7D4-D6AE46CE4CA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1C946-B2B9-42BB-A788-59AACAAC3F7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F8E38-D6AE-44BC-9E26-49C0B4BE7CF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5D326-B217-4129-B2F7-44C0551627D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7397A-9877-49FE-99B7-8105A3CB012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CFA26-A7DA-4AC1-B758-12F433172A7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9250FD-979E-48F7-B0B3-F01E01E70D7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31D0BF-6D3B-467E-A480-4E96D5B18C7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377F9-E686-4251-AC61-C363CB52AE8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D52712-5E4F-4BAD-8559-29289A1F307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B127A2-A71F-4EDC-B209-BB00A4AE7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9630-9F6F-42A8-BF61-BC5441DB451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39280" y="38052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3FE7B-4432-42B6-9004-B3096D12138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13031C-2CC8-4D25-8584-09B39A1F9A1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5C3B3-CB34-4B74-B165-1FF352B113D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B878D-0598-4D02-99E9-64F1D5329D6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90040" y="3783960"/>
            <a:ext cx="792324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8CD06-C1F6-4E41-8035-D5B24B12422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0120" y="159984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004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50120" y="3783960"/>
            <a:ext cx="386640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52F2D-6E78-431C-BB2F-9FE6D4AB4FD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6880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47920" y="159984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9004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6880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47920" y="3783960"/>
            <a:ext cx="2550960" cy="199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887BE9-7A6D-4F8D-A7EB-AFFA66524C7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89DDD8-E3C8-44CD-B4DA-824EB92B931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7A01BD-EBC9-430F-9628-A2957BE553E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78BE5F-E9BA-4953-ADF0-A7A0B656B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FFED-C07C-4E07-ADA6-2C6F4EF3EA89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8479-CFE2-48E8-A441-B492B07A0291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1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ftr" idx="17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14F9-E34B-419C-9166-50E7A9C30F97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BC53-138E-4707-A36C-FA4CD733B86D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9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D8FF-7682-4B3C-84C1-71C687E6E99E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20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37AF-F54A-4128-8811-767EBB9D6D5C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1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7977-DDC0-4BE2-8EB3-94614134799C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2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5D1C-B4B3-46AC-9C3D-3F882CF22E3A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3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EA16-7F8A-47BF-B6B0-66E4F4D60CA8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4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59EF-7135-46E9-B17A-64B2FFFF1540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5"/>
          <p:cNvSpPr/>
          <p:nvPr/>
        </p:nvSpPr>
        <p:spPr>
          <a:xfrm>
            <a:off x="6227640" y="6532560"/>
            <a:ext cx="279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ddddd"/>
                </a:solidFill>
                <a:latin typeface="Trebuchet MS"/>
                <a:ea typeface="Times New Roman"/>
              </a:rPr>
              <a:t>Copyright © 2008, Zend Technologies Inc.</a:t>
            </a:r>
            <a:endParaRPr b="0" lang="en-US" sz="9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ftr" idx="25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EB82-5D55-486B-9ADA-DD9B3D8AA4B8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sldNum" idx="26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8E9A-782E-4166-97F7-F6D634B226AA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27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6ACB-A7D5-4BAF-BC0C-C03821C66DFE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28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35B6-94E8-4B43-9FE4-49F5CF7EAA7D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ftr" idx="29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B050-AB9E-4EF2-A2B7-A44F0AF95258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sldNum" idx="30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8EEA-9314-478E-98A0-FC89063B08A1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ftr" idx="31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A630-8E4B-41A4-BFD0-4694A4550037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32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28EE-DED8-4801-8E8F-F46B994428C1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ftr" idx="33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EB7F-BD48-4201-8E9F-06F0174E20F2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sldNum" idx="34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EBC6-CD68-4D8D-9C70-A08382E203CE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64EA-93D9-4CFC-BC4F-9D24A69C87AA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C557-E9FD-48F4-9F30-3C7ADE7B7960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1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ftr" idx="35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E83C-ACCC-4371-A8E3-90877D32260A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sldNum" idx="36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8EFD-3229-46B8-BDCE-AE4D6D62F082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ftr" idx="37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9BFF-0B6F-4BD1-841B-40CA0BEC78A2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sldNum" idx="38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4E3C-D8D6-48C4-9324-77AEA586B5A2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ftr" idx="39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3926-18EB-4281-B15E-8211F411AE02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sldNum" idx="40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D95C-DFCA-4EA4-B2F9-BBC248936E6B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ftr" idx="41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A55B-CDEC-406C-A5E1-6B2196A6CEC9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 type="sldNum" idx="42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0102-B207-439E-972A-8E11E54B642E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ftr" idx="43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7AC7-173A-4DFE-A679-82BAC5EA46B0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sldNum" idx="44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4F45-24F6-4298-AFF9-08EF5D1F4A76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6227640" y="6532560"/>
            <a:ext cx="279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ddddd"/>
                </a:solidFill>
                <a:latin typeface="Trebuchet MS"/>
                <a:ea typeface="Times New Roman"/>
              </a:rPr>
              <a:t>Copyright © 2008, Zend Technologies Inc.</a:t>
            </a:r>
            <a:endParaRPr b="0" lang="en-US" sz="9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B1B8-C582-4ECB-9CCF-DFE1AE8B8117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C1B1-F668-4AC0-B148-5E515F215438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7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D076-E01F-4483-A096-733EA224C818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8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8EAE-E323-4B65-B4BD-727BD2457E7C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9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5246-D594-4AE9-801A-DB12ED912F07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10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BB18-7E4E-4387-AFBC-F9614E344138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746B-DAAD-4AD8-BBC3-237269C446F6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CE04-6D7F-46CF-8CE7-EC4DD92FDF6F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ftr" idx="13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A7D9-03E1-4DB2-8E90-49B6A738DA8E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sldNum" idx="14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483D-4028-4870-9298-48E5BFE5EF18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590040" y="1599840"/>
            <a:ext cx="792324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8aa23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78aa2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78aa2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buClr>
                <a:srgbClr val="929b91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55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42508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f7592"/>
                </a:solidFill>
                <a:latin typeface="Trebuchet MS"/>
              </a:rPr>
              <a:t>Click to edit the title text format</a:t>
            </a:r>
            <a:endParaRPr b="0" lang="en-US" sz="34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15"/>
          </p:nvPr>
        </p:nvSpPr>
        <p:spPr>
          <a:xfrm>
            <a:off x="555120" y="6453360"/>
            <a:ext cx="5185080" cy="2124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6810-EBD5-4C90-BFF7-BF4A6AA16FAD}" type="datetime5"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Jul 28, 2026</a:t>
            </a:fld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r>
              <a:rPr b="0" lang="en-US" sz="1100" spc="-1" strike="noStrike">
                <a:solidFill>
                  <a:srgbClr val="7a8e9e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16"/>
          </p:nvPr>
        </p:nvSpPr>
        <p:spPr>
          <a:xfrm>
            <a:off x="321840" y="6449760"/>
            <a:ext cx="289080" cy="21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10800" bIns="10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a8e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14AF-51C1-433B-A200-88CE6ACE0169}" type="slidenum">
              <a:rPr b="1" lang="en-US" sz="1200" spc="-1" strike="noStrike">
                <a:solidFill>
                  <a:srgbClr val="7a8e9e"/>
                </a:solidFill>
                <a:latin typeface="Times New Roman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imes New Roman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imes New Roman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92CE-5C99-4FC3-AA1A-77EAD3F471BE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66" name="Straight Connector 6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67" name="Picture 9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968" name="TextBox 8"/>
          <p:cNvSpPr/>
          <p:nvPr/>
        </p:nvSpPr>
        <p:spPr>
          <a:xfrm>
            <a:off x="0" y="3773520"/>
            <a:ext cx="94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rebuchet MS"/>
              </a:rPr>
              <a:t>Magento — </a:t>
            </a:r>
            <a:r>
              <a:rPr b="0" lang="ru-RU" sz="3600" spc="-1" strike="noStrike">
                <a:solidFill>
                  <a:srgbClr val="333300"/>
                </a:solidFill>
                <a:latin typeface="Trebuchet MS"/>
              </a:rPr>
              <a:t>современный инструмент электронной коммерции</a:t>
            </a:r>
            <a:endParaRPr b="0" lang="en-US" sz="36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69" name="TextBox 9"/>
          <p:cNvSpPr/>
          <p:nvPr/>
        </p:nvSpPr>
        <p:spPr>
          <a:xfrm>
            <a:off x="3467160" y="4952880"/>
            <a:ext cx="222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rebuchet MS"/>
              </a:rPr>
              <a:t>Константин Ъ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70" name="Picture 8" descr="vertical logo"/>
          <p:cNvPicPr/>
          <p:nvPr/>
        </p:nvPicPr>
        <p:blipFill>
          <a:blip r:embed="rId2"/>
          <a:stretch/>
        </p:blipFill>
        <p:spPr>
          <a:xfrm>
            <a:off x="2781360" y="825480"/>
            <a:ext cx="3581280" cy="29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Picture 5" descr="http://docs.google.com/a/tetra-soft.ru/File?id=dfvcn7zx_4hq4sd3fc_b"/>
          <p:cNvPicPr/>
          <p:nvPr/>
        </p:nvPicPr>
        <p:blipFill>
          <a:blip r:embed="rId1"/>
          <a:stretch/>
        </p:blipFill>
        <p:spPr>
          <a:xfrm>
            <a:off x="914400" y="1541520"/>
            <a:ext cx="3581280" cy="3944880"/>
          </a:xfrm>
          <a:prstGeom prst="rect">
            <a:avLst/>
          </a:prstGeom>
          <a:ln w="0">
            <a:noFill/>
          </a:ln>
        </p:spPr>
      </p:pic>
      <p:sp>
        <p:nvSpPr>
          <p:cNvPr id="1019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FC52-5EA3-4372-B1DB-F7F28BE64222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20" name="TextBox 6"/>
          <p:cNvSpPr/>
          <p:nvPr/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53f20"/>
                </a:solidFill>
                <a:latin typeface="Arial"/>
              </a:rPr>
              <a:t>Автоматизированная установка модулей</a:t>
            </a:r>
            <a:endParaRPr b="0" lang="en-US" sz="26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21" name="Straight Connector 7"/>
          <p:cNvSpPr/>
          <p:nvPr/>
        </p:nvSpPr>
        <p:spPr>
          <a:xfrm>
            <a:off x="380880" y="760320"/>
            <a:ext cx="8382240" cy="180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22" name="Picture 8" descr="magento_logo.png"/>
          <p:cNvPicPr/>
          <p:nvPr/>
        </p:nvPicPr>
        <p:blipFill>
          <a:blip r:embed="rId2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pic>
        <p:nvPicPr>
          <p:cNvPr id="1023" name="Content Placeholder 13" descr=""/>
          <p:cNvPicPr/>
          <p:nvPr/>
        </p:nvPicPr>
        <p:blipFill>
          <a:blip r:embed="rId3"/>
          <a:stretch/>
        </p:blipFill>
        <p:spPr>
          <a:xfrm>
            <a:off x="3193920" y="1414440"/>
            <a:ext cx="7937640" cy="42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A0DD-033E-4969-A890-E0E163F34956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25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26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27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pic>
        <p:nvPicPr>
          <p:cNvPr id="1029" name="Rectangle 5" descr=""/>
          <p:cNvPicPr/>
          <p:nvPr/>
        </p:nvPicPr>
        <p:blipFill>
          <a:blip r:embed="rId2"/>
          <a:stretch/>
        </p:blipFill>
        <p:spPr>
          <a:xfrm>
            <a:off x="533520" y="1255680"/>
            <a:ext cx="8229600" cy="44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D1E8-A2FC-4189-807C-741C2E8C0F74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31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32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33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2"/>
          <a:stretch/>
        </p:blipFill>
        <p:spPr>
          <a:xfrm>
            <a:off x="533520" y="1263600"/>
            <a:ext cx="822960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C02E-8B1D-4F22-B970-9793F7CD9A4E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37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38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39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 не так уж и хороша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3f20"/>
                </a:solidFill>
                <a:latin typeface="Arial Unicode MS"/>
                <a:ea typeface="Arial Unicode MS"/>
              </a:rPr>
              <a:t>Magento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крайне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]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сложна для программиста, который еще не работал с ней (высокий порог вхождения).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[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Чрезвычайно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]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требовательна к ресурсам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И все равно работает медленно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7C7D-D75C-4EB5-A499-29AE877C740A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43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44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45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Типичная ситуация для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pic>
        <p:nvPicPr>
          <p:cNvPr id="1047" name="Rectangle 5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8782200" cy="41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448F-80B3-4083-A3D3-4CC4382B5B72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49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50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51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Думаете, что это шуточки?)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Да чего только стоят названия классов: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Courier New"/>
              </a:rPr>
              <a:t>class</a:t>
            </a:r>
            <a:r>
              <a:rPr b="0" lang="ru-RU" sz="2000" spc="-1" strike="noStrike">
                <a:solidFill>
                  <a:srgbClr val="333300"/>
                </a:solidFill>
                <a:latin typeface="Courier New"/>
              </a:rPr>
              <a:t> Mage_Widget_Block_Adminhtml_Widget_Instance_Edit_Tab_Main_Layout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Courier New"/>
              </a:rPr>
              <a:t>extends</a:t>
            </a:r>
            <a:r>
              <a:rPr b="0" lang="ru-RU" sz="2000" spc="-1" strike="noStrike">
                <a:solidFill>
                  <a:srgbClr val="333300"/>
                </a:solidFill>
                <a:latin typeface="Courier New"/>
              </a:rPr>
              <a:t> Mage_Adminhtml_Block_Template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Courier New"/>
              </a:rPr>
              <a:t>implements</a:t>
            </a:r>
            <a:r>
              <a:rPr b="0" lang="ru-RU" sz="2000" spc="-1" strike="noStrike">
                <a:solidFill>
                  <a:srgbClr val="3333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Courier New"/>
              </a:rPr>
              <a:t>// </a:t>
            </a:r>
            <a:r>
              <a:rPr b="0" i="1" lang="ru-RU" sz="2000" spc="-1" strike="noStrike">
                <a:solidFill>
                  <a:srgbClr val="333300"/>
                </a:solidFill>
                <a:latin typeface="Courier New"/>
              </a:rPr>
              <a:t>и такие конструкции там сплошь и рядом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Courier New"/>
              </a:rPr>
              <a:t>Varien_Data_Form_Element_Renderer_Interface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Модель состоит из трех классов (сама модель + ресурс-модель + коллекция).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Вас ждут тонны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говна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XML’</a:t>
            </a:r>
            <a:r>
              <a:rPr b="0" lang="ru-RU" sz="2400" spc="-1" strike="noStrike">
                <a:solidFill>
                  <a:srgbClr val="333300"/>
                </a:solidFill>
                <a:latin typeface="Arial"/>
              </a:rPr>
              <a:t>а, почти 300 таблиц в базе и примерно 55 мегабайт кода</a:t>
            </a:r>
            <a:endParaRPr b="0" lang="en-US" sz="2400" spc="-1" strike="noStrike">
              <a:solidFill>
                <a:srgbClr val="46555f"/>
              </a:solidFill>
              <a:latin typeface="Trebuchet MS"/>
            </a:endParaRPr>
          </a:p>
        </p:txBody>
      </p:sp>
      <p:sp>
        <p:nvSpPr>
          <p:cNvPr id="1054" name=""/>
          <p:cNvSpPr/>
          <p:nvPr/>
        </p:nvSpPr>
        <p:spPr>
          <a:xfrm>
            <a:off x="3276720" y="5181480"/>
            <a:ext cx="91440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0979-5C45-471C-849F-4B7414D87A0F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56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57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58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Диаграмма компонентов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8229600" cy="56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2DE0-68B2-4C43-90F6-B6FB98D86E3C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2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3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64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Схема базы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822960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7691-ED25-4E92-A1CB-C39B705A3745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8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9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70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. Итоги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В общем «золотое дно» для </a:t>
            </a:r>
            <a:r>
              <a:rPr b="0" lang="ru-RU" sz="2800" spc="-1" strike="noStrike" u="sng">
                <a:solidFill>
                  <a:srgbClr val="333300"/>
                </a:solidFill>
                <a:uFillTx/>
                <a:latin typeface="Arial"/>
              </a:rPr>
              <a:t>умелого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фрилансера и компаний, занимающихся разработкой и поддержкой магазинов на ней или пишущих коммерческие экстеншены 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[</a:t>
            </a:r>
            <a:r>
              <a:rPr b="0" lang="ru-RU" sz="2800" spc="-1" strike="noStrike" u="sng">
                <a:solidFill>
                  <a:srgbClr val="333300"/>
                </a:solidFill>
                <a:uFillTx/>
                <a:latin typeface="Arial"/>
              </a:rPr>
              <a:t>для буржуев</a:t>
            </a:r>
            <a:r>
              <a:rPr b="0" lang="en-US" sz="2800" spc="-1" strike="noStrike" u="sng">
                <a:solidFill>
                  <a:srgbClr val="333300"/>
                </a:solidFill>
                <a:uFillTx/>
                <a:latin typeface="Arial"/>
              </a:rPr>
              <a:t>]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4C96-FEA4-4E7C-965C-84F716C12141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74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75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76" name="TextBox 8"/>
          <p:cNvSpPr/>
          <p:nvPr/>
        </p:nvSpPr>
        <p:spPr>
          <a:xfrm>
            <a:off x="3277440" y="2743200"/>
            <a:ext cx="23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53f20"/>
                </a:solidFill>
                <a:latin typeface="Arial"/>
              </a:rPr>
              <a:t>Вопросы?</a:t>
            </a:r>
            <a:endParaRPr b="0" lang="en-US" sz="36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77" name="TextBox 9"/>
          <p:cNvSpPr/>
          <p:nvPr/>
        </p:nvSpPr>
        <p:spPr>
          <a:xfrm>
            <a:off x="3234960" y="4267080"/>
            <a:ext cx="28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3f20"/>
                </a:solidFill>
                <a:latin typeface="Whitney-Medium"/>
              </a:rPr>
              <a:t>aaa@ya.ru</a:t>
            </a:r>
            <a:r>
              <a:rPr b="0" lang="en-US" sz="2800" spc="-1" strike="noStrike">
                <a:solidFill>
                  <a:srgbClr val="333300"/>
                </a:solidFill>
                <a:latin typeface="Whitney-Medium"/>
              </a:rPr>
              <a:t>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78" name="Title 8"/>
          <p:cNvSpPr/>
          <p:nvPr/>
        </p:nvSpPr>
        <p:spPr>
          <a:xfrm>
            <a:off x="56664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  <a:ea typeface="Arial Unicode MS"/>
              </a:rPr>
              <a:t>The End.</a:t>
            </a:r>
            <a:endParaRPr b="0" lang="en-US" sz="3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2332-75BE-4A2E-81C9-097C64341903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72" name="Picture 13" descr="magento_logo.png"/>
          <p:cNvPicPr/>
          <p:nvPr/>
        </p:nvPicPr>
        <p:blipFill>
          <a:blip r:embed="rId1"/>
          <a:stretch/>
        </p:blipFill>
        <p:spPr>
          <a:xfrm>
            <a:off x="1069920" y="1752480"/>
            <a:ext cx="7007400" cy="2119320"/>
          </a:xfrm>
          <a:prstGeom prst="rect">
            <a:avLst/>
          </a:prstGeom>
          <a:ln w="0">
            <a:noFill/>
          </a:ln>
        </p:spPr>
      </p:pic>
      <p:sp>
        <p:nvSpPr>
          <p:cNvPr id="973" name="Straight Connector 6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74" name="Picture 9" descr="magento_logo.png"/>
          <p:cNvPicPr/>
          <p:nvPr/>
        </p:nvPicPr>
        <p:blipFill>
          <a:blip r:embed="rId2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600" spc="-1" strike="noStrike">
              <a:solidFill>
                <a:srgbClr val="1f7592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9D68-17C0-43DD-8D34-6460125829F9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77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78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79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Что такое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590040" y="1295280"/>
            <a:ext cx="7923240" cy="44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"/>
                <a:ea typeface="Arial Unicode MS"/>
              </a:rPr>
              <a:t>Magento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rebuchet MS"/>
              </a:rPr>
              <a:t>—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движок Интернет-магазина, с открытым кодом, распространяющийся по лицензии </a:t>
            </a:r>
            <a:r>
              <a:rPr b="0" lang="en-US" sz="2800" spc="-1" strike="noStrike" u="sng">
                <a:solidFill>
                  <a:srgbClr val="333300"/>
                </a:solidFill>
                <a:uFillTx/>
                <a:latin typeface="Arial"/>
              </a:rPr>
              <a:t>Open Software License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(OSL 3.0). 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На конкурсе </a:t>
            </a:r>
            <a:r>
              <a:rPr b="0" lang="en-US" sz="2800" spc="-1" strike="noStrike" u="sng">
                <a:solidFill>
                  <a:srgbClr val="333300"/>
                </a:solidFill>
                <a:uFillTx/>
                <a:latin typeface="Arial"/>
              </a:rPr>
              <a:t>Sourceforge Community Choise Awards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d53f20"/>
                </a:solidFill>
                <a:latin typeface="Arial"/>
                <a:ea typeface="Arial Unicode MS"/>
              </a:rPr>
              <a:t>Magento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занял первое место в номинации «лучший новый проект».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Около 90% кода было написано в Киеве и Днепропетровске.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D3C6-54D6-4CA5-8858-6EC7AB154353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83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84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85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 </a:t>
            </a:r>
            <a:r>
              <a:rPr b="0" lang="ru-RU" sz="3000" spc="-1" strike="noStrike">
                <a:solidFill>
                  <a:srgbClr val="d53f20"/>
                </a:solidFill>
                <a:latin typeface="Arial Unicode MS"/>
              </a:rPr>
              <a:t>сегодня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590040" y="1295280"/>
            <a:ext cx="7923240" cy="44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Unicode MS"/>
              </a:rPr>
              <a:t>1 500 000+ загрузок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Unicode MS"/>
              </a:rPr>
              <a:t>6 000+ магазинов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Unicode MS"/>
              </a:rPr>
              <a:t>2 000+ расширений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Совершено транзакций на 25 000 000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 $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3f20"/>
                </a:solidFill>
                <a:latin typeface="Arial Unicode MS"/>
                <a:ea typeface="Arial Unicode MS"/>
              </a:rPr>
              <a:t>Magento</a:t>
            </a:r>
            <a:r>
              <a:rPr b="0" lang="en-US" sz="2800" spc="-1" strike="noStrike">
                <a:solidFill>
                  <a:srgbClr val="333300"/>
                </a:solidFill>
                <a:latin typeface="Arial Unicode MS"/>
              </a:rPr>
              <a:t> community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wiki, boards</a:t>
            </a:r>
            <a:r>
              <a:rPr b="0" lang="ru-RU" sz="2800" spc="-1" strike="noStrike">
                <a:solidFill>
                  <a:srgbClr val="3333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53f20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3f20"/>
                </a:solidFill>
                <a:latin typeface="Arial Unicode MS"/>
                <a:ea typeface="Arial Unicode MS"/>
              </a:rPr>
              <a:t>Magento</a:t>
            </a:r>
            <a:r>
              <a:rPr b="0" lang="en-US" sz="2800" spc="-1" strike="noStrike">
                <a:solidFill>
                  <a:srgbClr val="333300"/>
                </a:solidFill>
                <a:latin typeface="Arial Unicode MS"/>
              </a:rPr>
              <a:t> connect (extensions)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8EC5-A0CA-4F86-B0B0-EBBEDAF8DEBC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89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90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91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 </a:t>
            </a:r>
            <a:r>
              <a:rPr b="0" lang="ru-RU" sz="3000" spc="-1" strike="noStrike">
                <a:solidFill>
                  <a:srgbClr val="d53f20"/>
                </a:solidFill>
                <a:latin typeface="Arial Unicode MS"/>
              </a:rPr>
              <a:t>«под капотом»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 Unicode MS"/>
              </a:rPr>
              <a:t>PHP 5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 Unicode MS"/>
              </a:rPr>
              <a:t>OOP (MVC)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 Unicode MS"/>
              </a:rPr>
              <a:t>Zend Framework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6460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Arial Unicode MS"/>
              </a:rPr>
              <a:t>Модульная</a:t>
            </a:r>
            <a:r>
              <a:rPr b="0" lang="en-US" sz="2800" spc="-1" strike="noStrike">
                <a:solidFill>
                  <a:srgbClr val="333300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333300"/>
                </a:solidFill>
                <a:latin typeface="Arial Unicode MS"/>
              </a:rPr>
              <a:t>архитектура</a:t>
            </a:r>
            <a:endParaRPr b="0" lang="en-US" sz="28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B068-0CE6-466F-AA45-5274B112C90F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95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996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997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Системные требования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Linux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Windows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Веб-сервер Apache (1.x или 2.x)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PHP 5.2.0 (PHP 5.3 поддерживается начиная с версии 1.4), со следующими расширениями: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o PDO_MySQL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o mcrypt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o mhash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o simplexml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o DOM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MySQL 4.1.20 или выше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Sendmail-совместимый почтовый сервер.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E28F-9B4B-4ED9-9C20-B35EF2146731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01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02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03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Основные возможности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Arial"/>
              </a:rPr>
              <a:t>Пакеты дизайна</a:t>
            </a: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Arial"/>
              </a:rPr>
              <a:t>Множество валют</a:t>
            </a: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Arial"/>
              </a:rPr>
              <a:t>Множество сайтов на одной системе</a:t>
            </a: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Arial"/>
              </a:rPr>
              <a:t>Мультиязычность (</a:t>
            </a:r>
            <a:r>
              <a:rPr b="0" lang="en-US" sz="2600" spc="-1" strike="noStrike">
                <a:solidFill>
                  <a:srgbClr val="333300"/>
                </a:solidFill>
                <a:latin typeface="Arial"/>
              </a:rPr>
              <a:t>i18n, l10n)</a:t>
            </a: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00"/>
                </a:solidFill>
                <a:latin typeface="Arial"/>
              </a:rPr>
              <a:t>Методы оплаты и доставки</a:t>
            </a:r>
            <a:endParaRPr b="0" lang="en-US" sz="26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BD66-379C-4810-A7E3-E6B7414FCEBE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07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08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09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Возможности админки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 (1)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Маркетинговые инструменты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Многоуровневое ценообразование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Купоны 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скидок</a:t>
            </a: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Правила ценообразования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Отчеты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тчеты продаж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тчет по корзинам покупателя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тчет о списке отмеченного товара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тчет об отзывах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тчет по тегам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Отчет по поиску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Slide Number Placeholder 4"/>
          <p:cNvSpPr/>
          <p:nvPr/>
        </p:nvSpPr>
        <p:spPr>
          <a:xfrm>
            <a:off x="322200" y="6450120"/>
            <a:ext cx="2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0800" bIns="10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58C5-7BC3-46A5-A30C-4CEB752C9773}" type="slidenum">
              <a:rPr b="1" lang="en-US" sz="1200" spc="-1" strike="noStrike">
                <a:solidFill>
                  <a:srgbClr val="7a8e9e"/>
                </a:solidFill>
                <a:latin typeface="Trebuchet MS"/>
              </a:rPr>
              <a:t>&lt;number&gt;</a:t>
            </a:fld>
            <a:r>
              <a:rPr b="1" lang="en-US" sz="1100" spc="-1" strike="noStrike">
                <a:solidFill>
                  <a:srgbClr val="7a8e9e"/>
                </a:solidFill>
                <a:latin typeface="Trebuchet MS"/>
              </a:rPr>
              <a:t> </a:t>
            </a:r>
            <a:r>
              <a:rPr b="0" lang="en-US" sz="1200" spc="-1" strike="noStrike" baseline="6000">
                <a:solidFill>
                  <a:srgbClr val="7a8e9e"/>
                </a:solidFill>
                <a:latin typeface="Trebuchet MS"/>
                <a:ea typeface="Times New Roman"/>
              </a:rPr>
              <a:t>|</a:t>
            </a:r>
            <a:endParaRPr b="0" lang="en-US" sz="12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13" name="TextBox 5"/>
          <p:cNvSpPr/>
          <p:nvPr/>
        </p:nvSpPr>
        <p:spPr>
          <a:xfrm>
            <a:off x="380880" y="304920"/>
            <a:ext cx="6629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14" name="Straight Connector 7"/>
          <p:cNvSpPr/>
          <p:nvPr/>
        </p:nvSpPr>
        <p:spPr>
          <a:xfrm>
            <a:off x="380880" y="685800"/>
            <a:ext cx="8382240" cy="1440"/>
          </a:xfrm>
          <a:prstGeom prst="line">
            <a:avLst/>
          </a:prstGeom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  <p:pic>
        <p:nvPicPr>
          <p:cNvPr id="1015" name="Picture 8" descr="magento_logo.png"/>
          <p:cNvPicPr/>
          <p:nvPr/>
        </p:nvPicPr>
        <p:blipFill>
          <a:blip r:embed="rId1"/>
          <a:stretch/>
        </p:blipFill>
        <p:spPr>
          <a:xfrm>
            <a:off x="7391520" y="171360"/>
            <a:ext cx="1447560" cy="4381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425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Возможности админки </a:t>
            </a:r>
            <a:r>
              <a:rPr b="0" lang="en-US" sz="3000" spc="-1" strike="noStrike">
                <a:solidFill>
                  <a:srgbClr val="d53f20"/>
                </a:solidFill>
                <a:latin typeface="Arial Unicode MS"/>
              </a:rPr>
              <a:t>Magento</a:t>
            </a:r>
            <a:r>
              <a:rPr b="0" lang="ru-RU" sz="3000" spc="-1" strike="noStrike">
                <a:solidFill>
                  <a:srgbClr val="d53f20"/>
                </a:solidFill>
                <a:latin typeface="Arial"/>
              </a:rPr>
              <a:t> (2)</a:t>
            </a:r>
            <a:endParaRPr b="0" lang="en-US" sz="3000" spc="-1" strike="noStrike">
              <a:solidFill>
                <a:srgbClr val="1f7592"/>
              </a:solidFill>
              <a:latin typeface="Trebuchet MS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90040" y="129492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Продукты и каталог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Возможность задания различных атрибутов (свойств) для товара.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Группировка товара в комплекты.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Конфигурируемые продукты — продукты с выборочными свойствами (например цвет, размер и т. д.)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6460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Arial"/>
              </a:rPr>
              <a:t>Сортировка товара по предопределенным атрибутам. Атрибуты доступные для сортировки определяются в панели администрирования.</a:t>
            </a:r>
            <a:endParaRPr b="0" lang="en-US" sz="18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Система управления содержимым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(CMS)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Группы покупателей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Система контроля прав доступа (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ACL</a:t>
            </a:r>
            <a:r>
              <a:rPr b="0" lang="ru-RU" sz="2000" spc="-1" strike="noStrike">
                <a:solidFill>
                  <a:srgbClr val="33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6460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55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6:34:37Z</dcterms:created>
  <dc:creator>Minu</dc:creator>
  <dc:description/>
  <dc:language>en-US</dc:language>
  <cp:lastModifiedBy>DJ_Diesel</cp:lastModifiedBy>
  <dcterms:modified xsi:type="dcterms:W3CDTF">2010-06-02T20:11:55Z</dcterms:modified>
  <cp:revision>442</cp:revision>
  <dc:subject/>
  <dc:title>ZEND/PHP CONFERENCE – PPT TEMPLATE</dc:title>
</cp:coreProperties>
</file>